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36D-B856-4444-B154-7FEE48E8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311-9DD6-4CE6-B2C9-F02142E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020-18FF-413C-9F8F-E1A5EB30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15F-52AD-4366-9A25-5C1AAC0D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43F-B05D-41FA-BE4D-21557D18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6B3-D25B-470A-B132-CB55C7D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8BA-AF3C-4C71-B143-9B770EC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F1F-99CD-4292-A206-08BFEBF0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9D4-8AD3-45FF-A83C-53B353E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491-FC79-4533-B3E6-D45C187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6A5-CB48-419B-B36D-EB4CFC8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059-9BA8-412E-92CA-BB87358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00D-B7FD-4BBB-8A35-1A24CCF19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148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1 Статистическое кодирование в системах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кция №2. Статистическое кодирование. Методы неравномерного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8760" y="21333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статистического кодирования источников дискретных сообщ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Методы неравномерного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895320"/>
          <a:ext cx="8229600" cy="5230800"/>
        </p:xfrm>
        <a:graphic>
          <a:graphicData uri="http://schemas.openxmlformats.org/drawingml/2006/table">
            <a:tbl>
              <a:tblPr/>
              <a:tblGrid>
                <a:gridCol w="1001880"/>
                <a:gridCol w="1099800"/>
                <a:gridCol w="901800"/>
                <a:gridCol w="1095480"/>
                <a:gridCol w="933480"/>
                <a:gridCol w="1285920"/>
                <a:gridCol w="933480"/>
                <a:gridCol w="97776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,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3"/>
          <p:cNvSpPr/>
          <p:nvPr/>
        </p:nvSpPr>
        <p:spPr>
          <a:xfrm>
            <a:off x="1908000" y="5229360"/>
            <a:ext cx="5904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ропия сообщения на выходе  ИДС без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разной вероятностью появлением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547640" y="1196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+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+…+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(x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1332000" y="2348640"/>
            <a:ext cx="5833440" cy="1087920"/>
            <a:chOff x="1332000" y="2348640"/>
            <a:chExt cx="5833440" cy="1087920"/>
          </a:xfrm>
        </p:grpSpPr>
        <p:grpSp>
          <p:nvGrpSpPr>
            <p:cNvPr id="51" name="Group 15"/>
            <p:cNvGrpSpPr/>
            <p:nvPr/>
          </p:nvGrpSpPr>
          <p:grpSpPr>
            <a:xfrm>
              <a:off x="1620720" y="2348640"/>
              <a:ext cx="5544720" cy="1087920"/>
              <a:chOff x="1620720" y="2348640"/>
              <a:chExt cx="5544720" cy="1087920"/>
            </a:xfrm>
          </p:grpSpPr>
          <p:sp>
            <p:nvSpPr>
              <p:cNvPr id="52" name="Rectangle 11"/>
              <p:cNvSpPr/>
              <p:nvPr/>
            </p:nvSpPr>
            <p:spPr>
              <a:xfrm>
                <a:off x="1620720" y="2348640"/>
                <a:ext cx="55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+…+n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I(x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2341080" y="2925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3"/>
              <p:cNvSpPr/>
              <p:nvPr/>
            </p:nvSpPr>
            <p:spPr>
              <a:xfrm>
                <a:off x="4026240" y="3068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14"/>
            <p:cNvSpPr/>
            <p:nvPr/>
          </p:nvSpPr>
          <p:spPr>
            <a:xfrm>
              <a:off x="1332000" y="2636640"/>
              <a:ext cx="86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7"/>
          <p:cNvSpPr/>
          <p:nvPr/>
        </p:nvSpPr>
        <p:spPr>
          <a:xfrm>
            <a:off x="2033640" y="186516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количество информации на симво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979640" y="4365720"/>
          <a:ext cx="57387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65720"/>
                    <a:ext cx="57387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1971720" y="5229360"/>
          <a:ext cx="527220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5229360"/>
                    <a:ext cx="5272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20"/>
          <p:cNvSpPr/>
          <p:nvPr/>
        </p:nvSpPr>
        <p:spPr>
          <a:xfrm>
            <a:off x="230760" y="3502080"/>
            <a:ext cx="9289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это частота появления символа,  то есть вероятнос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(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мв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3840" y="-44280"/>
            <a:ext cx="81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ИДС без памяти, алфавит которого состоит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 Б, В, и Г, для которого известны вероятности появления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) = 0.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 = 0.2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)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) = 0.12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– 00, Б – 10, В – 01, Г – 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530280" y="1692360"/>
          <a:ext cx="708336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692360"/>
                    <a:ext cx="70833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5"/>
          <p:cNvSpPr/>
          <p:nvPr/>
        </p:nvSpPr>
        <p:spPr>
          <a:xfrm>
            <a:off x="402840" y="1382760"/>
            <a:ext cx="51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ассчитаем энтропию источника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722160" y="2800440"/>
          <a:ext cx="47386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2160" y="2800440"/>
                    <a:ext cx="47386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8"/>
          <p:cNvSpPr/>
          <p:nvPr/>
        </p:nvSpPr>
        <p:spPr>
          <a:xfrm>
            <a:off x="445320" y="2362320"/>
            <a:ext cx="49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читаем энтропию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4880" y="372276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ссчитаем избыточность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546120" y="4154400"/>
          <a:ext cx="552780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120" y="4154400"/>
                    <a:ext cx="55278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714240" y="5621400"/>
          <a:ext cx="450864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5621400"/>
                    <a:ext cx="4508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494640" y="4994280"/>
            <a:ext cx="86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ассчитаем скорость передачи информации при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вномерном код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03920" y="112860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ассчитаем среднее количество разрядов на символ источника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18960" y="21589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читаем энтропию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95560" y="344340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ссчитаем избыточность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го к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04920" y="4702320"/>
            <a:ext cx="89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Рассчитаем скорость передачи информации при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равномерном кодиро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54880" y="63000"/>
            <a:ext cx="72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закодируем символы того же ИДС неравномерным к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) = 0.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 = 0.25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)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) = 0.125,  например, т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 – 0, Б – 10, В – 110, Г – 1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6"/>
          <p:cNvGraphicFramePr/>
          <p:nvPr/>
        </p:nvGraphicFramePr>
        <p:xfrm>
          <a:off x="365040" y="1407960"/>
          <a:ext cx="80470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407960"/>
                    <a:ext cx="80470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9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8"/>
          <p:cNvGraphicFramePr/>
          <p:nvPr/>
        </p:nvGraphicFramePr>
        <p:xfrm>
          <a:off x="585720" y="2546280"/>
          <a:ext cx="355608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2546280"/>
                    <a:ext cx="3556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0"/>
          <p:cNvGraphicFramePr/>
          <p:nvPr/>
        </p:nvGraphicFramePr>
        <p:xfrm>
          <a:off x="523800" y="3863880"/>
          <a:ext cx="366876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3800" y="3863880"/>
                    <a:ext cx="3668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2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2"/>
          <p:cNvGraphicFramePr/>
          <p:nvPr/>
        </p:nvGraphicFramePr>
        <p:xfrm>
          <a:off x="477720" y="5214960"/>
          <a:ext cx="5592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720" y="5214960"/>
                    <a:ext cx="5592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44600" y="17002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прос №2 Методы неравномерного кодирован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1120" y="453960"/>
          <a:ext cx="8178840" cy="6404040"/>
        </p:xfrm>
        <a:graphic>
          <a:graphicData uri="http://schemas.openxmlformats.org/drawingml/2006/table">
            <a:tbl>
              <a:tblPr/>
              <a:tblGrid>
                <a:gridCol w="1577880"/>
                <a:gridCol w="804960"/>
                <a:gridCol w="784080"/>
                <a:gridCol w="1095480"/>
                <a:gridCol w="1093680"/>
                <a:gridCol w="925560"/>
                <a:gridCol w="1897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Символы 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р(х</a:t>
                      </a:r>
                      <a:r>
                        <a:rPr b="1" lang="en-US" sz="2400" spc="-1" strike="noStrike" baseline="-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 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ш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овая комбин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381"/>
          <p:cNvSpPr/>
          <p:nvPr/>
        </p:nvSpPr>
        <p:spPr>
          <a:xfrm>
            <a:off x="1459440" y="-3348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дирование методом Шеннона-Ф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601040" y="2027160"/>
            <a:ext cx="931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162920" y="890640"/>
            <a:ext cx="1981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27200" y="5538960"/>
            <a:ext cx="6080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295200" y="85716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95200" y="197640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295200" y="85716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8967960" y="89064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95200" y="1976400"/>
            <a:ext cx="869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95200" y="2587680"/>
            <a:ext cx="24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95200" y="19764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8967960" y="19764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295200" y="2587680"/>
            <a:ext cx="24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7338960" y="319716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295200" y="258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>
            <a:off x="8967960" y="25876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95200" y="319716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7338960" y="380844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9"/>
          <p:cNvSpPr/>
          <p:nvPr/>
        </p:nvSpPr>
        <p:spPr>
          <a:xfrm>
            <a:off x="295200" y="319716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8967960" y="319716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295200" y="380844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7338960" y="441792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295200" y="380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4"/>
          <p:cNvSpPr/>
          <p:nvPr/>
        </p:nvSpPr>
        <p:spPr>
          <a:xfrm>
            <a:off x="8967960" y="380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295200" y="441792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>
            <a:off x="7338960" y="50292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95200" y="44179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"/>
          <p:cNvSpPr/>
          <p:nvPr/>
        </p:nvSpPr>
        <p:spPr>
          <a:xfrm>
            <a:off x="8967960" y="44179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9"/>
          <p:cNvSpPr/>
          <p:nvPr/>
        </p:nvSpPr>
        <p:spPr>
          <a:xfrm>
            <a:off x="295200" y="502920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7358040" y="5640480"/>
            <a:ext cx="162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>
            <a:off x="295200" y="50292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8967960" y="50292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3"/>
          <p:cNvSpPr/>
          <p:nvPr/>
        </p:nvSpPr>
        <p:spPr>
          <a:xfrm>
            <a:off x="295200" y="564048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>
            <a:off x="295200" y="6249960"/>
            <a:ext cx="867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295200" y="564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6"/>
          <p:cNvSpPr/>
          <p:nvPr/>
        </p:nvSpPr>
        <p:spPr>
          <a:xfrm>
            <a:off x="8967960" y="564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>
            <a:off x="1785960" y="857160"/>
            <a:ext cx="0" cy="539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8"/>
          <p:cNvSpPr/>
          <p:nvPr/>
        </p:nvSpPr>
        <p:spPr>
          <a:xfrm>
            <a:off x="2728800" y="857160"/>
            <a:ext cx="0" cy="542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425916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0"/>
          <p:cNvSpPr/>
          <p:nvPr/>
        </p:nvSpPr>
        <p:spPr>
          <a:xfrm>
            <a:off x="5024520" y="1976400"/>
            <a:ext cx="0" cy="427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580860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6573960" y="2011320"/>
            <a:ext cx="0" cy="4273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3494160" y="19764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"/>
          <p:cNvSpPr/>
          <p:nvPr/>
        </p:nvSpPr>
        <p:spPr>
          <a:xfrm>
            <a:off x="7338960" y="857160"/>
            <a:ext cx="0" cy="539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299880" y="925560"/>
            <a:ext cx="14274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1865160" y="958680"/>
            <a:ext cx="771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2922480" y="1389240"/>
            <a:ext cx="398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8"/>
          <p:cNvSpPr/>
          <p:nvPr/>
        </p:nvSpPr>
        <p:spPr>
          <a:xfrm flipH="1">
            <a:off x="2728440" y="1433520"/>
            <a:ext cx="459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9"/>
          <p:cNvSpPr/>
          <p:nvPr/>
        </p:nvSpPr>
        <p:spPr>
          <a:xfrm>
            <a:off x="3554280" y="870120"/>
            <a:ext cx="3233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ер ш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0"/>
          <p:cNvSpPr/>
          <p:nvPr/>
        </p:nvSpPr>
        <p:spPr>
          <a:xfrm>
            <a:off x="3763800" y="1370160"/>
            <a:ext cx="471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1"/>
          <p:cNvSpPr/>
          <p:nvPr/>
        </p:nvSpPr>
        <p:spPr>
          <a:xfrm>
            <a:off x="4510080" y="14079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2"/>
          <p:cNvSpPr/>
          <p:nvPr/>
        </p:nvSpPr>
        <p:spPr>
          <a:xfrm>
            <a:off x="5275440" y="1389240"/>
            <a:ext cx="588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3"/>
          <p:cNvSpPr/>
          <p:nvPr/>
        </p:nvSpPr>
        <p:spPr>
          <a:xfrm>
            <a:off x="6060960" y="1389240"/>
            <a:ext cx="470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4"/>
          <p:cNvSpPr/>
          <p:nvPr/>
        </p:nvSpPr>
        <p:spPr>
          <a:xfrm>
            <a:off x="6864480" y="1389240"/>
            <a:ext cx="5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5"/>
          <p:cNvSpPr/>
          <p:nvPr/>
        </p:nvSpPr>
        <p:spPr>
          <a:xfrm>
            <a:off x="746280" y="2486160"/>
            <a:ext cx="6872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6"/>
          <p:cNvSpPr/>
          <p:nvPr/>
        </p:nvSpPr>
        <p:spPr>
          <a:xfrm>
            <a:off x="746280" y="1874880"/>
            <a:ext cx="844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7"/>
          <p:cNvSpPr/>
          <p:nvPr/>
        </p:nvSpPr>
        <p:spPr>
          <a:xfrm>
            <a:off x="727200" y="3095640"/>
            <a:ext cx="901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8"/>
          <p:cNvSpPr/>
          <p:nvPr/>
        </p:nvSpPr>
        <p:spPr>
          <a:xfrm>
            <a:off x="727200" y="3706920"/>
            <a:ext cx="7063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727200" y="4384800"/>
            <a:ext cx="62676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727200" y="4927680"/>
            <a:ext cx="685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1903320" y="1908000"/>
            <a:ext cx="687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2"/>
          <p:cNvSpPr/>
          <p:nvPr/>
        </p:nvSpPr>
        <p:spPr>
          <a:xfrm>
            <a:off x="1903320" y="2519280"/>
            <a:ext cx="7272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3"/>
          <p:cNvSpPr/>
          <p:nvPr/>
        </p:nvSpPr>
        <p:spPr>
          <a:xfrm>
            <a:off x="1903320" y="3133800"/>
            <a:ext cx="8049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4"/>
          <p:cNvSpPr/>
          <p:nvPr/>
        </p:nvSpPr>
        <p:spPr>
          <a:xfrm>
            <a:off x="1903320" y="3740040"/>
            <a:ext cx="8254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1903320" y="4351320"/>
            <a:ext cx="668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6"/>
          <p:cNvSpPr/>
          <p:nvPr/>
        </p:nvSpPr>
        <p:spPr>
          <a:xfrm>
            <a:off x="1903320" y="4960800"/>
            <a:ext cx="9032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7"/>
          <p:cNvSpPr/>
          <p:nvPr/>
        </p:nvSpPr>
        <p:spPr>
          <a:xfrm>
            <a:off x="1903320" y="5572080"/>
            <a:ext cx="765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8"/>
          <p:cNvSpPr/>
          <p:nvPr/>
        </p:nvSpPr>
        <p:spPr>
          <a:xfrm>
            <a:off x="7358040" y="2587680"/>
            <a:ext cx="16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9"/>
          <p:cNvSpPr/>
          <p:nvPr/>
        </p:nvSpPr>
        <p:spPr>
          <a:xfrm>
            <a:off x="2728800" y="533412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0"/>
          <p:cNvSpPr/>
          <p:nvPr/>
        </p:nvSpPr>
        <p:spPr>
          <a:xfrm>
            <a:off x="2728800" y="5945040"/>
            <a:ext cx="3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1"/>
          <p:cNvSpPr/>
          <p:nvPr/>
        </p:nvSpPr>
        <p:spPr>
          <a:xfrm>
            <a:off x="3062160" y="5334120"/>
            <a:ext cx="0" cy="64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2"/>
          <p:cNvSpPr/>
          <p:nvPr/>
        </p:nvSpPr>
        <p:spPr>
          <a:xfrm>
            <a:off x="3062160" y="5640480"/>
            <a:ext cx="70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>
            <a:off x="2728800" y="2892600"/>
            <a:ext cx="249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4"/>
          <p:cNvSpPr/>
          <p:nvPr/>
        </p:nvSpPr>
        <p:spPr>
          <a:xfrm>
            <a:off x="2728800" y="472428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5"/>
          <p:cNvSpPr/>
          <p:nvPr/>
        </p:nvSpPr>
        <p:spPr>
          <a:xfrm>
            <a:off x="3747960" y="4724280"/>
            <a:ext cx="0" cy="91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6"/>
          <p:cNvSpPr/>
          <p:nvPr/>
        </p:nvSpPr>
        <p:spPr>
          <a:xfrm>
            <a:off x="3747960" y="5164200"/>
            <a:ext cx="147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7"/>
          <p:cNvSpPr/>
          <p:nvPr/>
        </p:nvSpPr>
        <p:spPr>
          <a:xfrm>
            <a:off x="5200560" y="2892600"/>
            <a:ext cx="0" cy="22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8"/>
          <p:cNvSpPr/>
          <p:nvPr/>
        </p:nvSpPr>
        <p:spPr>
          <a:xfrm>
            <a:off x="2747880" y="3503520"/>
            <a:ext cx="166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9"/>
          <p:cNvSpPr/>
          <p:nvPr/>
        </p:nvSpPr>
        <p:spPr>
          <a:xfrm>
            <a:off x="2728800" y="4132440"/>
            <a:ext cx="166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0"/>
          <p:cNvSpPr/>
          <p:nvPr/>
        </p:nvSpPr>
        <p:spPr>
          <a:xfrm>
            <a:off x="4395960" y="3503520"/>
            <a:ext cx="0" cy="64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1"/>
          <p:cNvSpPr/>
          <p:nvPr/>
        </p:nvSpPr>
        <p:spPr>
          <a:xfrm>
            <a:off x="4395960" y="3808440"/>
            <a:ext cx="160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2"/>
          <p:cNvSpPr/>
          <p:nvPr/>
        </p:nvSpPr>
        <p:spPr>
          <a:xfrm>
            <a:off x="2747880" y="2281320"/>
            <a:ext cx="323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3"/>
          <p:cNvSpPr/>
          <p:nvPr/>
        </p:nvSpPr>
        <p:spPr>
          <a:xfrm>
            <a:off x="5985000" y="2281320"/>
            <a:ext cx="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4"/>
          <p:cNvSpPr/>
          <p:nvPr/>
        </p:nvSpPr>
        <p:spPr>
          <a:xfrm>
            <a:off x="5200560" y="4011480"/>
            <a:ext cx="15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5"/>
          <p:cNvSpPr/>
          <p:nvPr/>
        </p:nvSpPr>
        <p:spPr>
          <a:xfrm>
            <a:off x="5985000" y="3027240"/>
            <a:ext cx="80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6"/>
          <p:cNvSpPr/>
          <p:nvPr/>
        </p:nvSpPr>
        <p:spPr>
          <a:xfrm>
            <a:off x="6770520" y="3027240"/>
            <a:ext cx="0" cy="98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7"/>
          <p:cNvSpPr/>
          <p:nvPr/>
        </p:nvSpPr>
        <p:spPr>
          <a:xfrm>
            <a:off x="6770520" y="35035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8"/>
          <p:cNvSpPr/>
          <p:nvPr/>
        </p:nvSpPr>
        <p:spPr>
          <a:xfrm>
            <a:off x="7562880" y="2600280"/>
            <a:ext cx="931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7540560" y="3209760"/>
            <a:ext cx="1187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0"/>
          <p:cNvSpPr/>
          <p:nvPr/>
        </p:nvSpPr>
        <p:spPr>
          <a:xfrm>
            <a:off x="7578720" y="3835440"/>
            <a:ext cx="1108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1"/>
          <p:cNvSpPr/>
          <p:nvPr/>
        </p:nvSpPr>
        <p:spPr>
          <a:xfrm>
            <a:off x="7559640" y="4484520"/>
            <a:ext cx="122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2"/>
          <p:cNvSpPr/>
          <p:nvPr/>
        </p:nvSpPr>
        <p:spPr>
          <a:xfrm>
            <a:off x="6888240" y="5504040"/>
            <a:ext cx="15890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3"/>
          <p:cNvSpPr/>
          <p:nvPr/>
        </p:nvSpPr>
        <p:spPr>
          <a:xfrm>
            <a:off x="7499520" y="5075280"/>
            <a:ext cx="11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"/>
          <p:cNvSpPr/>
          <p:nvPr/>
        </p:nvSpPr>
        <p:spPr>
          <a:xfrm>
            <a:off x="7518240" y="5686560"/>
            <a:ext cx="1189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6983280" y="3030480"/>
            <a:ext cx="451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6"/>
          <p:cNvSpPr/>
          <p:nvPr/>
        </p:nvSpPr>
        <p:spPr>
          <a:xfrm>
            <a:off x="6589800" y="3994200"/>
            <a:ext cx="431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5838840" y="1922400"/>
            <a:ext cx="471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8"/>
          <p:cNvSpPr/>
          <p:nvPr/>
        </p:nvSpPr>
        <p:spPr>
          <a:xfrm>
            <a:off x="4208400" y="4102200"/>
            <a:ext cx="432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4151160" y="3144960"/>
            <a:ext cx="490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6600960" y="2612880"/>
            <a:ext cx="45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1"/>
          <p:cNvSpPr/>
          <p:nvPr/>
        </p:nvSpPr>
        <p:spPr>
          <a:xfrm>
            <a:off x="5972040" y="3490920"/>
            <a:ext cx="41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2"/>
          <p:cNvSpPr/>
          <p:nvPr/>
        </p:nvSpPr>
        <p:spPr>
          <a:xfrm>
            <a:off x="5033880" y="2495520"/>
            <a:ext cx="471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3541680" y="4344840"/>
            <a:ext cx="45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4"/>
          <p:cNvSpPr/>
          <p:nvPr/>
        </p:nvSpPr>
        <p:spPr>
          <a:xfrm>
            <a:off x="5033880" y="5170320"/>
            <a:ext cx="509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5"/>
          <p:cNvSpPr/>
          <p:nvPr/>
        </p:nvSpPr>
        <p:spPr>
          <a:xfrm>
            <a:off x="3541680" y="5626080"/>
            <a:ext cx="47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2892600" y="4937040"/>
            <a:ext cx="588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7"/>
          <p:cNvSpPr/>
          <p:nvPr/>
        </p:nvSpPr>
        <p:spPr>
          <a:xfrm>
            <a:off x="5997600" y="2649600"/>
            <a:ext cx="668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8"/>
          <p:cNvSpPr/>
          <p:nvPr/>
        </p:nvSpPr>
        <p:spPr>
          <a:xfrm>
            <a:off x="2854440" y="5908680"/>
            <a:ext cx="431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9"/>
          <p:cNvSpPr/>
          <p:nvPr/>
        </p:nvSpPr>
        <p:spPr>
          <a:xfrm>
            <a:off x="4448160" y="3395520"/>
            <a:ext cx="70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5249880" y="4032360"/>
            <a:ext cx="666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1"/>
          <p:cNvSpPr/>
          <p:nvPr/>
        </p:nvSpPr>
        <p:spPr>
          <a:xfrm>
            <a:off x="3778200" y="4786200"/>
            <a:ext cx="746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2"/>
          <p:cNvSpPr/>
          <p:nvPr/>
        </p:nvSpPr>
        <p:spPr>
          <a:xfrm>
            <a:off x="3054240" y="5241960"/>
            <a:ext cx="685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3"/>
          <p:cNvSpPr/>
          <p:nvPr/>
        </p:nvSpPr>
        <p:spPr>
          <a:xfrm>
            <a:off x="34941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4"/>
          <p:cNvSpPr/>
          <p:nvPr/>
        </p:nvSpPr>
        <p:spPr>
          <a:xfrm>
            <a:off x="42591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5"/>
          <p:cNvSpPr/>
          <p:nvPr/>
        </p:nvSpPr>
        <p:spPr>
          <a:xfrm>
            <a:off x="502452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6"/>
          <p:cNvSpPr/>
          <p:nvPr/>
        </p:nvSpPr>
        <p:spPr>
          <a:xfrm>
            <a:off x="580860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7"/>
          <p:cNvSpPr/>
          <p:nvPr/>
        </p:nvSpPr>
        <p:spPr>
          <a:xfrm>
            <a:off x="6573960" y="1433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8"/>
          <p:cNvSpPr/>
          <p:nvPr/>
        </p:nvSpPr>
        <p:spPr>
          <a:xfrm>
            <a:off x="1460520" y="38160"/>
            <a:ext cx="61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дирование методом Хафм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7:11:06Z</dcterms:created>
  <dc:creator>**</dc:creator>
  <dc:description/>
  <dc:language>en-US</dc:language>
  <cp:lastModifiedBy>Вера</cp:lastModifiedBy>
  <dcterms:modified xsi:type="dcterms:W3CDTF">2021-09-14T12:49:19Z</dcterms:modified>
  <cp:revision>201</cp:revision>
  <dc:subject/>
  <dc:title>Слайд 1</dc:title>
</cp:coreProperties>
</file>